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F86-CDE9-4B35-BC33-562900A8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FC8-D352-4425-933C-B601F265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821-9869-47BA-B4DC-40D69C97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666-F198-4031-BE34-9965E48D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F0A-0B8A-4C82-AC42-3AE3A8D8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216-48C5-4197-9F79-F9D72886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1D8-18A7-4742-A8B1-241E5802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6DF-E94C-466E-9126-15BD1D47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2B0-C2F4-4540-96BD-5D81CB35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8B3-490C-407B-BD52-87655D62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3AD-1F06-434F-A2CD-9592B153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58E-7DB2-4C67-9313-406DD239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4EB1-C9BD-443A-9CE7-8E2E2082BA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Verdana"/>
              </a:rPr>
              <a:t>!!! POZOR !!!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točí Tě to a pořádně!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áš 1000 Kč. Přidej 40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 ještě 1000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 teď ještě 30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 ještě 1000,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yní 20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 přidej ještě 1000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 nakonec 10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lik Ti vyšlo?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šlo Ti 5000?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le správná odpověď je 41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Teď si to spočítej v klidu znovu i s kalkulačkou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áš 1000 Kč. Přidej 40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 ještě 1000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 teď ještě 30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 ještě 1000,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yní 20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 přidej ještě 1000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 nakonec 10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4x1000+40+30+20+10=4100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Tak ještě poslední pokus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7885080" y="623736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42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Evy otec má 5 dcer jmenuj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191628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273060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1. Kach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2. Kech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3. Kich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4. ???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5. K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537372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ak se jmenuje čtvrtá?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ychle přemýšlej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79640" cy="46692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49923" h="21600">
                <a:moveTo>
                  <a:pt x="0" y="0"/>
                </a:moveTo>
                <a:lnTo>
                  <a:pt x="49923" y="0"/>
                </a:lnTo>
                <a:lnTo>
                  <a:pt x="49923" y="21600"/>
                </a:lnTo>
                <a:lnTo>
                  <a:pt x="0" y="21600"/>
                </a:lnTo>
                <a:close/>
              </a:path>
              <a:path fill="lightenLess" w="49923" h="21600">
                <a:moveTo>
                  <a:pt x="0" y="0"/>
                </a:moveTo>
                <a:lnTo>
                  <a:pt x="49923" y="0"/>
                </a:lnTo>
                <a:lnTo>
                  <a:pt x="48523" y="1400"/>
                </a:lnTo>
                <a:lnTo>
                  <a:pt x="1400" y="1400"/>
                </a:lnTo>
                <a:close/>
              </a:path>
              <a:path fill="darken" w="49923" h="21600">
                <a:moveTo>
                  <a:pt x="49923" y="0"/>
                </a:moveTo>
                <a:lnTo>
                  <a:pt x="49923" y="21600"/>
                </a:lnTo>
                <a:lnTo>
                  <a:pt x="48523" y="20200"/>
                </a:lnTo>
                <a:lnTo>
                  <a:pt x="48523" y="1400"/>
                </a:lnTo>
                <a:close/>
              </a:path>
              <a:path fill="darkenLess" w="49923" h="21600">
                <a:moveTo>
                  <a:pt x="49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23" y="20200"/>
                </a:lnTo>
                <a:close/>
              </a:path>
              <a:path fill="lighten" w="49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23" h="21600">
                <a:moveTo>
                  <a:pt x="17955" y="3794"/>
                </a:moveTo>
                <a:lnTo>
                  <a:pt x="31968" y="10800"/>
                </a:lnTo>
                <a:lnTo>
                  <a:pt x="179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EVA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e to jednoduché, ne?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čti si ještě jednou otázku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10800"/>
                </a:moveTo>
                <a:lnTo>
                  <a:pt x="28568" y="3794"/>
                </a:lnTo>
                <a:lnTo>
                  <a:pt x="28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60199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pě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šli tento mail svým známým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dyž nepošleš, nic se Ti nestane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le když ho pošleš,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tak aspoň víc lidí bude vědět,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že jim to dnes nějak nemyslí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endshow"/>
          </p:cNvPr>
          <p:cNvSpPr/>
          <p:nvPr/>
        </p:nvSpPr>
        <p:spPr>
          <a:xfrm>
            <a:off x="7812000" y="6021360"/>
            <a:ext cx="1152720" cy="609480"/>
          </a:xfrm>
          <a:custGeom>
            <a:avLst/>
            <a:gdLst>
              <a:gd name="textAreaLeft" fmla="*/ 39240 w 1152720"/>
              <a:gd name="textAreaRight" fmla="*/ 1113480 w 115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841" h="21600">
                <a:moveTo>
                  <a:pt x="0" y="0"/>
                </a:moveTo>
                <a:lnTo>
                  <a:pt x="40841" y="0"/>
                </a:lnTo>
                <a:lnTo>
                  <a:pt x="40841" y="21600"/>
                </a:lnTo>
                <a:lnTo>
                  <a:pt x="0" y="21600"/>
                </a:lnTo>
                <a:close/>
              </a:path>
              <a:path fill="lightenLess" w="40841" h="21600">
                <a:moveTo>
                  <a:pt x="0" y="0"/>
                </a:moveTo>
                <a:lnTo>
                  <a:pt x="40841" y="0"/>
                </a:lnTo>
                <a:lnTo>
                  <a:pt x="39441" y="1400"/>
                </a:lnTo>
                <a:lnTo>
                  <a:pt x="1400" y="1400"/>
                </a:lnTo>
                <a:close/>
              </a:path>
              <a:path fill="darken" w="40841" h="21600">
                <a:moveTo>
                  <a:pt x="40841" y="0"/>
                </a:moveTo>
                <a:lnTo>
                  <a:pt x="40841" y="21600"/>
                </a:lnTo>
                <a:lnTo>
                  <a:pt x="39441" y="20200"/>
                </a:lnTo>
                <a:lnTo>
                  <a:pt x="39441" y="1400"/>
                </a:lnTo>
                <a:close/>
              </a:path>
              <a:path fill="darkenLess" w="40841" h="21600">
                <a:moveTo>
                  <a:pt x="40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41" y="20200"/>
                </a:lnTo>
                <a:close/>
              </a:path>
              <a:path fill="lighten" w="40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41" h="21600">
                <a:moveTo>
                  <a:pt x="23919" y="10800"/>
                </a:moveTo>
                <a:lnTo>
                  <a:pt x="13414" y="17806"/>
                </a:lnTo>
                <a:lnTo>
                  <a:pt x="13414" y="3794"/>
                </a:lnTo>
                <a:close/>
              </a:path>
              <a:path fill="darken" w="40841" h="21600">
                <a:moveTo>
                  <a:pt x="25765" y="3794"/>
                </a:moveTo>
                <a:lnTo>
                  <a:pt x="25765" y="17806"/>
                </a:lnTo>
                <a:lnTo>
                  <a:pt x="27427" y="17806"/>
                </a:lnTo>
                <a:lnTo>
                  <a:pt x="2742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zkoušej si malý testík na „zpříjemnění“ dn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erozmýšlej příliš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a tyto otázky je,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třeba odpovídat hned!!!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dívejme se nakolik jsi chytrý(á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si připravený(á)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no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Tak jde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účastníš se na závodech v běhu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dběhneš druhého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a kolikáté pozici jsi potom skončil?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Řekl(a) jsi, že na prvním?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packal(a) jsi to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dyž předběhneš druhého, tak přebereš jeho místo a ty budeš druhý(á)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deme na další otázku, ale nerozmýšlej dlouho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dběhneš posledního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a kolikátém místě skončíš?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tvoje odpověď zněla předposlední,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tak si to zpackal(a) znovu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mýšlej!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ak můžeš předběhnout posledního ?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jsi byl(a) za ním,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tak on nemohl být poslední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neska Ti to moc nemyslí – co?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7885080" y="623736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K zkusíme to ještě jednou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amatuj si: odpověz rychle!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kus tot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zahlavi_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7:31:20Z</dcterms:created>
  <dc:creator>NP</dc:creator>
  <dc:description/>
  <dc:language>en-US</dc:language>
  <cp:lastModifiedBy>Luboš Marek</cp:lastModifiedBy>
  <dcterms:modified xsi:type="dcterms:W3CDTF">2007-09-10T07:11:04Z</dcterms:modified>
  <cp:revision>9</cp:revision>
  <dc:subject/>
  <dc:title>Vytočí Vás to a riadne .......</dc:title>
</cp:coreProperties>
</file>